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6E47-365B-4084-A980-A39CA0FB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8D1-D065-4402-A84E-30613114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D42-C8F9-44AC-96ED-D7E09BEA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822-BB86-46A7-BC21-07D03161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B36C-4660-4F57-A877-FAC0341B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12D-982B-40CD-8693-BEA574AB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97C-C5D5-4074-BE16-4F8CA07E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DFB7-E9E3-409B-9B29-D267009B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DE9-95D9-4F56-8816-947645CF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D1F1-D27D-43F7-93F9-EDBF0CFE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A28B-9043-4E2D-A8DF-4A24E77C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BA0-B801-4960-A9A6-76038B20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7A80-613B-4D5D-9296-2BB97F9B784F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 u="sng">
                <a:solidFill>
                  <a:srgbClr val="333399"/>
                </a:solidFill>
                <a:uFillTx/>
                <a:latin typeface="Chalkboard"/>
              </a:rPr>
              <a:t>Los opuestos</a:t>
            </a:r>
            <a:endParaRPr b="0" lang="en-US" sz="79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joven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viej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55344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aliente              frí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72080" cy="3886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ontento              triste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153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bueno                 mal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91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bajo 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 alt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727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grande 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pequeñ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muchos             pocos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572000" cy="4495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410080" y="2286000"/>
            <a:ext cx="2438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viejo 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 nuev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191120" y="2286000"/>
            <a:ext cx="4952880" cy="3119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396216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lento                rápid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16736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filado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      gord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59736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bajo 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 alt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727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suave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      dur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267080" cy="4647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444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laro                  oscur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114800" cy="4343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4238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joven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viej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55344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aliente              frí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72080" cy="3886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ontento              triste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153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bueno                 mal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91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grande 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pequeñ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muchos             pocos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572000" cy="449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10080" y="2286000"/>
            <a:ext cx="2438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viejo 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 nuev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91120" y="2438280"/>
            <a:ext cx="4952880" cy="3119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396252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lento                rápid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16736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filado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      gord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59736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suave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      dur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267080" cy="4647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444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laro                  oscur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114800" cy="4343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4238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00:09:45Z</dcterms:created>
  <dc:creator>HPS User</dc:creator>
  <dc:description/>
  <dc:language>en-US</dc:language>
  <cp:lastModifiedBy>HPS</cp:lastModifiedBy>
  <dcterms:modified xsi:type="dcterms:W3CDTF">2007-10-20T20:50:36Z</dcterms:modified>
  <cp:revision>18</cp:revision>
  <dc:subject/>
  <dc:title>PowerPoint Presentation</dc:title>
</cp:coreProperties>
</file>